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73D0-1650-4C6C-B4D7-3A507EFD7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EA79-2FB5-484B-89C0-74210ABB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D817-8790-44CA-9750-F1975919C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8128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192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8128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192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90CC-8CBC-40E7-8A9A-9E1822192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8CA2-5849-413B-BA8C-076176F9A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58E9-9A73-4D62-89D6-02C15031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D1BF-04D7-4FF8-A2C8-963860DC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C713-F8E1-48EA-97A0-1824ABC4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9080-4DF5-4A85-9086-D4826742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42640" y="609480"/>
            <a:ext cx="987588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AA26-C0C3-4652-908B-607DEC30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38EE-6B79-41D9-9571-3D9BD157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5444-B16C-4AF9-9611-EACBEA15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7521-9370-4E42-B373-91CF5057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FEB5-2B98-4F93-BCFA-F0E80E47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B676-9CDE-4902-9ED3-C50253A1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3841-3A55-4655-B49A-75D753F12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8128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192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430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48128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8192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F428-BC60-44DE-AD8E-A6EEA1596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059FE-06C8-45AE-810A-04F9B3D43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CD0F2-372C-4159-9A5B-1013B0E7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A27F9-DBE0-4B74-8B07-F79E50D3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95233-94A9-4B80-A4DB-C49A6BA5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B122D-28F8-4B00-BCE0-98677494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1B44-BA2F-45B7-8561-795E16CA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2640" y="609480"/>
            <a:ext cx="987588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320CF-1CCA-42AB-85C7-50FD55F2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33A38-ECBD-4993-A834-E376FB1E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A4F6D-EBC4-4EB8-9CB9-799CE4CE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C2E74-3446-4EAE-A9F3-2BC7C418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8E41E-D053-41B8-9217-BEA8CD1C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4C6F3-7F9E-4DD4-A568-631FDDC1D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8128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8192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1430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48128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78192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1E966-1F9A-4E66-BD52-FF044226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BBEC-A69A-4CB1-B18E-52E120EE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556E-8963-4268-8CF3-157D2FDE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609480"/>
            <a:ext cx="987588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3AF4-D726-4548-9EA8-3C0F9909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8131-5D16-4131-8AB6-F27DC06A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C024-770D-452A-94ED-719EAC1D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AF62-1F0B-4D94-8B17-2F8DF230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231840" y="244440"/>
            <a:ext cx="11723760" cy="637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4572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2" marL="73008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3" marL="100476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4" marL="127944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5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6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2640" y="6224760"/>
            <a:ext cx="2328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D41C48-8DEE-4D84-9581-BAC7AA99B849}" type="slidenum">
              <a:rPr b="0" lang="en-US" sz="12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231840" y="244440"/>
            <a:ext cx="11723760" cy="637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231840" y="244440"/>
            <a:ext cx="11723760" cy="637704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Straight Connector 7"/>
          <p:cNvSpPr/>
          <p:nvPr/>
        </p:nvSpPr>
        <p:spPr>
          <a:xfrm>
            <a:off x="1978200" y="3733920"/>
            <a:ext cx="82296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4572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2" marL="73008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3" marL="100476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4" marL="127944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5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6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142640" y="6224760"/>
            <a:ext cx="2328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5D732D-7751-41CA-8F50-888D4A4ED0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231840" y="244440"/>
            <a:ext cx="11723760" cy="637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Straight Connector 6"/>
          <p:cNvSpPr/>
          <p:nvPr/>
        </p:nvSpPr>
        <p:spPr>
          <a:xfrm>
            <a:off x="1981080" y="4021200"/>
            <a:ext cx="82296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4572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2" marL="73008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3" marL="100476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4" marL="127944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5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6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142640" y="6224760"/>
            <a:ext cx="2328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DF20D8-7339-407F-BFF4-BD4DFD5BD58A}" type="slidenum">
              <a:rPr b="0" lang="en-US" sz="12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09160" y="882360"/>
            <a:ext cx="9968040" cy="292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АНЦИЯ</a:t>
            </a:r>
            <a:r>
              <a:rPr b="1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7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709280" y="3870360"/>
            <a:ext cx="8767800" cy="13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722811"/>
                </a:solidFill>
                <a:latin typeface="Times New Roman"/>
                <a:ea typeface="Times New Roman"/>
              </a:rPr>
              <a:t>«Муравейник»</a:t>
            </a:r>
            <a:endParaRPr b="0" lang="en-US" sz="80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16162"/>
                </a:solidFill>
                <a:latin typeface="Corbel"/>
              </a:rPr>
              <a:t>Каких животных можно назвать друзьями леса</a:t>
            </a:r>
            <a:r>
              <a:rPr b="0" lang="en-US" sz="4400" spc="-1" strike="noStrike">
                <a:solidFill>
                  <a:srgbClr val="616162"/>
                </a:solidFill>
                <a:latin typeface="Corbel"/>
              </a:rPr>
              <a:t>?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d891d"/>
                </a:solidFill>
                <a:latin typeface="Times New Roman"/>
                <a:ea typeface="Times New Roman"/>
              </a:rPr>
              <a:t>Заяц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d891d"/>
                </a:solidFill>
                <a:latin typeface="Times New Roman"/>
                <a:ea typeface="Times New Roman"/>
              </a:rPr>
              <a:t>Белка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d891d"/>
                </a:solidFill>
                <a:latin typeface="Times New Roman"/>
                <a:ea typeface="Times New Roman"/>
              </a:rPr>
              <a:t>Лиса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d891d"/>
                </a:solidFill>
                <a:latin typeface="Times New Roman"/>
                <a:ea typeface="Times New Roman"/>
              </a:rPr>
              <a:t>Волк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d891d"/>
                </a:solidFill>
                <a:latin typeface="Times New Roman"/>
                <a:ea typeface="Times New Roman"/>
              </a:rPr>
              <a:t>Медведь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16886"/>
                </a:solidFill>
                <a:latin typeface="Corbel"/>
              </a:rPr>
              <a:t>Как определить стороны горизонта по муравейнику</a:t>
            </a:r>
            <a:r>
              <a:rPr b="0" lang="en-US" sz="4400" spc="-1" strike="noStrike">
                <a:solidFill>
                  <a:srgbClr val="316886"/>
                </a:solidFill>
                <a:latin typeface="Corbel"/>
              </a:rPr>
              <a:t>?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Муравейник обычно располагается с Южной стороны растений – дерева, пня, кустарника. Это связано с тем, что на Северной стороне холоднее, дуют сильные ветры и мало снега.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4428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бычно все муравейники похожи друг на друга, у них одна сторона более крутая смотрит на Север другая более пологая смотрит на Юг.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4428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Муравьи являются теплолюбивыми насекомыми, поэтому стремятся строить свое жилище – муравейник на Южной стороне.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orbel"/>
              </a:rPr>
              <a:t>Какую пользу приносят муравьи человеку</a:t>
            </a:r>
            <a:r>
              <a:rPr b="0" lang="en-US" sz="4400" spc="-1" strike="noStrike">
                <a:solidFill>
                  <a:srgbClr val="00b050"/>
                </a:solidFill>
                <a:latin typeface="Corbel"/>
              </a:rPr>
              <a:t>?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b3c19"/>
                </a:solidFill>
                <a:latin typeface="Times New Roman"/>
                <a:ea typeface="Times New Roman"/>
              </a:rPr>
              <a:t>Принимают участие в разложении органических веществ.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b3c19"/>
                </a:solidFill>
                <a:latin typeface="Times New Roman"/>
                <a:ea typeface="Times New Roman"/>
              </a:rPr>
              <a:t>Улучшают опыление растений.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b3c19"/>
                </a:solidFill>
                <a:latin typeface="Times New Roman"/>
                <a:ea typeface="Times New Roman"/>
              </a:rPr>
              <a:t>Вырабатывают «муравьиную кислоту».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b3c19"/>
                </a:solidFill>
                <a:latin typeface="Times New Roman"/>
                <a:ea typeface="Times New Roman"/>
              </a:rPr>
              <a:t>Борются с вредителями леса и у построек людей.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b3c19"/>
                </a:solidFill>
                <a:latin typeface="Times New Roman"/>
                <a:ea typeface="Times New Roman"/>
              </a:rPr>
              <a:t>Тушат «пожары».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orbel"/>
              </a:rPr>
              <a:t>Вопросы викторины</a:t>
            </a:r>
            <a:r>
              <a:rPr b="0" lang="en-US" sz="4400" spc="-1" strike="noStrike">
                <a:solidFill>
                  <a:srgbClr val="ffc000"/>
                </a:solidFill>
                <a:latin typeface="Corbel"/>
              </a:rPr>
              <a:t>: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Сколько бывает разновидностей муравьев по цвету</a:t>
            </a:r>
            <a:r>
              <a:rPr b="0" lang="en-US" sz="2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Сколько лапок у муравьев</a:t>
            </a:r>
            <a:r>
              <a:rPr b="0" lang="en-US" sz="2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На сегодняшний день в Мире насчитывается более 16000 видов муравьев! Как вы думаете сколько видов муравьев обитает в России</a:t>
            </a:r>
            <a:r>
              <a:rPr b="0" lang="en-US" sz="2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Как называется наука которая занимается изучением муравьев</a:t>
            </a:r>
            <a:r>
              <a:rPr b="0" lang="en-US" sz="2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Какую пользу приносят муравьи</a:t>
            </a:r>
            <a:r>
              <a:rPr b="0" lang="en-US" sz="2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16886"/>
                </a:solidFill>
                <a:latin typeface="Times New Roman"/>
                <a:ea typeface="Times New Roman"/>
              </a:rPr>
              <a:t>Ответы викторины.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16162"/>
                </a:solidFill>
                <a:latin typeface="Times New Roman"/>
                <a:ea typeface="Times New Roman"/>
              </a:rPr>
              <a:t>6 цветов (красные, коричневые, черные, зеленые, рыжие, синие)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16162"/>
                </a:solidFill>
                <a:latin typeface="Times New Roman"/>
                <a:ea typeface="Times New Roman"/>
              </a:rPr>
              <a:t>У муравьев 3 пары лапок, всего их 6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16162"/>
                </a:solidFill>
                <a:latin typeface="Times New Roman"/>
                <a:ea typeface="Times New Roman"/>
              </a:rPr>
              <a:t>В России обитает 300 видов муравьев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16162"/>
                </a:solidFill>
                <a:latin typeface="Times New Roman"/>
                <a:ea typeface="Times New Roman"/>
              </a:rPr>
              <a:t>Это Мирмекология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16162"/>
                </a:solidFill>
                <a:latin typeface="Times New Roman"/>
                <a:ea typeface="Times New Roman"/>
              </a:rPr>
              <a:t>Они</a:t>
            </a:r>
            <a:r>
              <a:rPr b="0" lang="en-US" sz="2800" spc="-1" strike="noStrike">
                <a:solidFill>
                  <a:srgbClr val="616162"/>
                </a:solidFill>
                <a:latin typeface="Times New Roman"/>
                <a:ea typeface="Times New Roman"/>
              </a:rPr>
              <a:t>:</a:t>
            </a:r>
            <a:r>
              <a:rPr b="0" lang="ru-RU" sz="2800" spc="-1" strike="noStrike">
                <a:solidFill>
                  <a:srgbClr val="616162"/>
                </a:solidFill>
                <a:latin typeface="Times New Roman"/>
                <a:ea typeface="Times New Roman"/>
              </a:rPr>
              <a:t> Разносят семена по лесу, очищают лес от погибших насекомых, вредителей, «муравьиная кислота» используется в медицине.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3-06T10:10:05Z</dcterms:created>
  <dc:creator>User</dc:creator>
  <dc:description/>
  <dc:language>en-US</dc:language>
  <cp:lastModifiedBy>User</cp:lastModifiedBy>
  <dcterms:modified xsi:type="dcterms:W3CDTF">2025-03-06T10:36:35Z</dcterms:modified>
  <cp:revision>28</cp:revision>
  <dc:subject/>
  <dc:title>Станция</dc:title>
</cp:coreProperties>
</file>